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30D8-2518-4707-96F9-26ECF98C1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AF8C-4A2A-4617-8FF6-80374736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C863-9A15-48AA-BCAA-611CFCCED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2FCE-E319-4862-9CCA-CFFE4E79B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B71C-23E2-4478-93EE-C3ACE69FE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7ECA-EEC8-4888-9A11-D31E0312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FBA2-D1A2-478A-9F3C-997D8D42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821F5-9B8A-45D8-A84C-EDEF522D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1CBA-8D55-4D21-A12C-6E2D3E3E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9F04-F958-4094-B2D4-0386B104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F425-46EB-4CDD-81B4-35D04507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9790-43A5-47F3-9828-627D1680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D0C9F-BF5A-4E9A-A47F-09825FB8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6DEA-766E-4F32-9BBE-97A562B3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2137-8DCB-4CB7-B7BF-4B760CBD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842B-9D53-4149-BC43-0D75FB6E6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0492E-8F1B-40CD-BDAB-7F722910A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B516-A192-4ABA-99E2-E2C2D12E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29EA-C681-4165-A19A-6C266CD1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BDDA-D125-42BA-B6CA-E491C46B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8536-CF85-4434-8D2C-DDE68DD0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658C-121C-460E-8D97-74538E40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543E-D88C-43D2-A00D-C91D9F95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3E6B-35E3-4C29-BCCB-425F80FC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0B81-62D9-4816-875A-5D4F52E8CFF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086E-66EC-4501-99A5-9EF76AE4598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A New Country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A New Experienc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udent Nam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et Involv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come a voluntee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come an exchange studen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come a host famil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28440" y="2031840"/>
            <a:ext cx="624852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ecome a Volunte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48840" y="2787480"/>
            <a:ext cx="6837480" cy="26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520" y="1498320"/>
            <a:ext cx="7086600" cy="17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ecome an Exchange Stud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71480" y="3704760"/>
            <a:ext cx="5780160" cy="21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udy abro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ive with a host famil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eak the foreign languag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828440" y="1676520"/>
            <a:ext cx="609588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ecome a Host Famil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812600" y="3205080"/>
            <a:ext cx="645156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are your home for a yea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are a friendship for a lifetim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5280" y="1600200"/>
            <a:ext cx="655344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untries you can visit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52120" y="3047760"/>
            <a:ext cx="25909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ustral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ustr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nmar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gl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ra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rman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8320" y="3048120"/>
            <a:ext cx="3124080" cy="33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rel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ta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w Zeal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ap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cotl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witzerl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33360" y="380880"/>
            <a:ext cx="525780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enefi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6723000" cy="45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udying abroad will enable you to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perience a different cultur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fect a second languag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ke lifelong international friend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velop strong interpersonal skill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ild self-confidenc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2209680"/>
            <a:ext cx="85377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plore the opportunities today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023560" y="3371400"/>
            <a:ext cx="490860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ll for more informa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800-555-212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lobal Stud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21:59:10Z</dcterms:created>
  <dc:creator>Connie Morrison</dc:creator>
  <dc:description/>
  <dc:language>en-US</dc:language>
  <cp:lastModifiedBy>Julie Hotchkiss</cp:lastModifiedBy>
  <dcterms:modified xsi:type="dcterms:W3CDTF">2004-09-24T15:33:00Z</dcterms:modified>
  <cp:revision>14</cp:revision>
  <dc:subject/>
  <dc:title>A New Country A New Experience</dc:title>
</cp:coreProperties>
</file>